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B88-6DC7-44E6-B3D7-81BF6F3E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92A-DD6A-46E7-B729-EFF29828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65B3-047E-4402-975F-9F1E4117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78B-139D-44FC-89FC-70F3722D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A1E9-F3E5-4241-8447-810C5353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518C-6F99-45B6-8A85-5A4E89A4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BE59-AA0E-45A3-AE28-3B3B023A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A277-D024-473F-BEC6-3E67CD39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CD8B-044D-460D-ABC6-8FD3D938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7B36-BE42-4433-9D01-91352F24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3AAB-0DF8-4CD5-8DA4-1CD73E1F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EAE-647C-4862-ACEB-CB43B129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5A19-C2C9-4F21-9B4F-07CB06BA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E26D-65DB-4704-BE2B-97B80E31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F471-EAF1-47D1-815A-2B40A8B2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9D1C-8C8A-43ED-80D9-0E79157F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2EC8-6594-4B3B-93AA-FCDA3A81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9C0F-159B-41EF-B693-A68137FA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14B-BE9B-4CDE-86B2-52FFB5E4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BE13-CF9C-47F9-A4F5-725F996C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81FF-E911-4A3E-8CC6-CECE1659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65BA-B000-405E-A468-101A327E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D6EF-7D01-4FCE-8E81-4720FA73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392-7E4B-4F0A-BEA2-040D68B5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EB62-3E57-4D3F-AD5A-0752680EE34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FB24-ACE2-4A56-959D-EE3AE55369C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79153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999900"/>
                </a:solidFill>
                <a:latin typeface="Garamond"/>
              </a:rPr>
              <a:t>TRANSPOSICONES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4076640"/>
            <a:ext cx="8534160" cy="91440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ción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, esenc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ment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un mecanismo de la lengu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ue nos permite realizar cambi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una categoría funcional a otra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uel González Alfay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23880" y="609480"/>
            <a:ext cx="4800600" cy="1752840"/>
          </a:xfrm>
          <a:prstGeom prst="flowChartMultidocumen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84360" y="1022400"/>
            <a:ext cx="47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lengua permite tamb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ransposiciones do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9200" y="2819520"/>
            <a:ext cx="84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hombres </a:t>
            </a:r>
            <a:r>
              <a:rPr b="0" lang="es-ES_tradnl" sz="2400" spc="-1" strike="noStrike">
                <a:solidFill>
                  <a:srgbClr val="99ff33"/>
                </a:solidFill>
                <a:latin typeface="Verdana"/>
              </a:rPr>
              <a:t>&lt;que&gt;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triunfan (= triunfadores) (Sadj) (Si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4760" y="3581280"/>
            <a:ext cx="79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arrima (a) </a:t>
            </a:r>
            <a:r>
              <a:rPr b="0" lang="es-ES_tradnl" sz="2400" spc="-1" strike="noStrike">
                <a:solidFill>
                  <a:srgbClr val="6699ff"/>
                </a:solidFill>
                <a:latin typeface="Verdana"/>
              </a:rPr>
              <a:t>[los]</a:t>
            </a:r>
            <a:r>
              <a:rPr b="0" lang="es-ES_tradnl" sz="2400" spc="-1" strike="noStrike">
                <a:solidFill>
                  <a:srgbClr val="99ff66"/>
                </a:solidFill>
                <a:latin typeface="Verdana"/>
              </a:rPr>
              <a:t> &lt; qu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&gt; triunfan (= a ellos) (SN) (Dob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449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8000" y="4546440"/>
            <a:ext cx="792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Los problemas  </a:t>
            </a:r>
            <a:r>
              <a:rPr b="1" lang="es-ES_tradnl" sz="2000" spc="-1" strike="noStrike">
                <a:solidFill>
                  <a:srgbClr val="99ff33"/>
                </a:solidFill>
                <a:latin typeface="Verdana"/>
              </a:rPr>
              <a:t>&lt;de&gt;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6699ff"/>
                </a:solidFill>
                <a:latin typeface="Verdana"/>
              </a:rPr>
              <a:t>[los]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99ff33"/>
                </a:solidFill>
                <a:latin typeface="Verdana"/>
              </a:rPr>
              <a:t>&lt;que&gt;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triunfan (= sus) (Sadj. (Tri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uel González Alfayate</a:t>
            </a: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2565360"/>
            <a:ext cx="3124080" cy="3505320"/>
          </a:xfrm>
          <a:prstGeom prst="horizontalScroll">
            <a:avLst>
              <a:gd name="adj" fmla="val 12092"/>
            </a:avLst>
          </a:prstGeom>
          <a:solidFill>
            <a:srgbClr val="99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3429000"/>
            <a:ext cx="2438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da transposición consta de dos elementos: el 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ransposito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y la 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as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2637000"/>
            <a:ext cx="5486400" cy="3504960"/>
          </a:xfrm>
          <a:prstGeom prst="flowChartManualOperation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2743200"/>
            <a:ext cx="32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ff66"/>
                </a:solidFill>
                <a:latin typeface="Verdana"/>
              </a:rPr>
              <a:t>La bas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es la unidad lingüística que sirve de par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ff66"/>
                </a:solidFill>
                <a:latin typeface="Verdana"/>
              </a:rPr>
              <a:t>El transposit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es el signo (preposición, conjunción, artículo...)que se suma a la base para formar una construcción perteneciente a una nueva categ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62064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n ocasiones necesitamos que un adjetivo o un enunciado oracional asuma las funciones de un sintagma sustantivo, o que un sustantivo realice la función propias de un sintagma adjetivo,etc. El mecanismo lingüístico que nos  proporciona la lengua para efectuar estos cambios se denomina Transpo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uel González Alfay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999900"/>
                </a:solidFill>
                <a:latin typeface="Garamond"/>
              </a:rPr>
              <a:t>TRANSPOSICONES</a:t>
            </a:r>
            <a:endParaRPr b="0" lang="en-US" sz="39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2307600" y="990720"/>
            <a:ext cx="31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 puerta     </a:t>
            </a:r>
            <a:r>
              <a:rPr b="0" lang="es-ES_tradnl" sz="1800" spc="-1" strike="noStrike">
                <a:solidFill>
                  <a:srgbClr val="99cc00"/>
                </a:solidFill>
                <a:latin typeface="Verdana"/>
              </a:rPr>
              <a:t>&lt;de&gt;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la 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15238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2133720"/>
            <a:ext cx="8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 Ad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1447920"/>
            <a:ext cx="7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e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144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1676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334120" y="1447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6765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32520" y="4756320"/>
            <a:ext cx="45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 puerta    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99cc00"/>
                </a:solidFill>
                <a:latin typeface="Verdana"/>
              </a:rPr>
              <a:t>&lt;de&gt;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la casa anti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513720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/>
          <p:nvPr/>
        </p:nvCxnSpPr>
        <p:spPr>
          <a:xfrm flipH="1">
            <a:off x="4647600" y="5028120"/>
            <a:ext cx="3734280" cy="762840"/>
          </a:xfrm>
          <a:prstGeom prst="bentConnector3">
            <a:avLst>
              <a:gd name="adj1" fmla="val -93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 flipV="1">
            <a:off x="4648320" y="5028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70000" y="5899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d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9080" y="513720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e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49528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0" y="192"/>
                </a:lnTo>
                <a:lnTo>
                  <a:pt x="1296" y="192"/>
                </a:lnTo>
                <a:lnTo>
                  <a:pt x="129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50160" y="53341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181080" y="1916280"/>
            <a:ext cx="3657600" cy="4762440"/>
          </a:xfrm>
          <a:prstGeom prst="verticalScroll">
            <a:avLst>
              <a:gd name="adj" fmla="val 11546"/>
            </a:avLst>
          </a:prstGeom>
          <a:gradFill rotWithShape="0">
            <a:gsLst>
              <a:gs pos="0">
                <a:srgbClr val="6699ff"/>
              </a:gs>
              <a:gs pos="100000">
                <a:srgbClr val="66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760" y="2927520"/>
            <a:ext cx="2606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2767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2133720"/>
            <a:ext cx="2519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importante saber que la base nunca cambia de categoría. Lo que pertenece a una categoría nueva es la construcción que forma junto con el transposi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puerta de la cas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el SN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cas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igue siendo SN después de la transposición y, como tal, puede llevar un complemento adjetivo (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casa antigu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533520"/>
            <a:ext cx="3276720" cy="3200400"/>
          </a:xfrm>
          <a:prstGeom prst="leftArrowCallout">
            <a:avLst>
              <a:gd name="adj1" fmla="val 16668"/>
              <a:gd name="adj2" fmla="val 15875"/>
              <a:gd name="adj3" fmla="val 20984"/>
              <a:gd name="adj4" fmla="val 72923"/>
            </a:avLst>
          </a:prstGeom>
          <a:gradFill rotWithShape="0">
            <a:gsLst>
              <a:gs pos="0">
                <a:srgbClr val="99cc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914400"/>
            <a:ext cx="2286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preposición unida al nombre da lugar a un segmento de carácter adjetivo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puerta de la casa = Esa puer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32320" y="1219320"/>
            <a:ext cx="1954080" cy="838080"/>
          </a:xfrm>
          <a:custGeom>
            <a:avLst/>
            <a:gdLst/>
            <a:ahLst/>
            <a:rect l="l" t="t" r="r" b="b"/>
            <a:pathLst>
              <a:path w="1231" h="528">
                <a:moveTo>
                  <a:pt x="0" y="11"/>
                </a:moveTo>
                <a:cubicBezTo>
                  <a:pt x="11" y="512"/>
                  <a:pt x="11" y="342"/>
                  <a:pt x="11" y="520"/>
                </a:cubicBezTo>
                <a:lnTo>
                  <a:pt x="1231" y="528"/>
                </a:lnTo>
                <a:lnTo>
                  <a:pt x="123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uel González Alfay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01600" y="396720"/>
            <a:ext cx="6166080" cy="680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66"/>
                </a:solidFill>
                <a:latin typeface="Verdana"/>
              </a:rPr>
              <a:t>TIPOS DE TRANSPOSITORES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197000"/>
            <a:ext cx="6748560" cy="310680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Transpositores a categoría nom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Distinguimos dos posibilida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que la base sea verbal o no</a:t>
            </a:r>
            <a:r>
              <a:rPr b="0" lang="es-ES" sz="18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1341360"/>
            <a:ext cx="2670120" cy="316728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uando la 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o es un ver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transposi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tilizado es 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6600ff"/>
                </a:solidFill>
                <a:latin typeface="Verdana"/>
                <a:ea typeface="Times New Roman"/>
              </a:rPr>
              <a:t>artícul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869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9900"/>
                </a:solidFill>
                <a:latin typeface="Arial"/>
                <a:ea typeface="Times New Roman"/>
              </a:rPr>
              <a:t>A mí me gusta </a:t>
            </a:r>
            <a:r>
              <a:rPr b="0" lang="es-ES_tradnl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[</a:t>
            </a:r>
            <a:r>
              <a:rPr b="0" i="1" lang="es-ES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lo</a:t>
            </a:r>
            <a:r>
              <a:rPr b="0" i="1" lang="es-ES_tradnl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]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lanco</a:t>
            </a:r>
            <a:r>
              <a:rPr b="0" lang="es-ES" sz="2400" spc="-1" strike="noStrike">
                <a:solidFill>
                  <a:srgbClr val="999900"/>
                </a:solidFill>
                <a:latin typeface="Arial"/>
                <a:ea typeface="Times New Roman"/>
              </a:rPr>
              <a:t>, viva </a:t>
            </a:r>
            <a:r>
              <a:rPr b="0" lang="es-ES_tradnl" sz="2400" spc="-1" strike="noStrike">
                <a:solidFill>
                  <a:srgbClr val="6699ff"/>
                </a:solidFill>
                <a:latin typeface="Arial"/>
                <a:ea typeface="Times New Roman"/>
              </a:rPr>
              <a:t>[</a:t>
            </a:r>
            <a:r>
              <a:rPr b="0" i="1" lang="es-ES" sz="2400" spc="-1" strike="noStrike">
                <a:solidFill>
                  <a:srgbClr val="6699ff"/>
                </a:solidFill>
                <a:latin typeface="Arial"/>
                <a:ea typeface="Times New Roman"/>
              </a:rPr>
              <a:t>lo</a:t>
            </a:r>
            <a:r>
              <a:rPr b="0" i="1" lang="es-ES_tradnl" sz="2400" spc="-1" strike="noStrike">
                <a:solidFill>
                  <a:srgbClr val="6699ff"/>
                </a:solidFill>
                <a:latin typeface="Arial"/>
                <a:ea typeface="Times New Roman"/>
              </a:rPr>
              <a:t>]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lanco</a:t>
            </a:r>
            <a:r>
              <a:rPr b="0" lang="es-ES" sz="2400" spc="-1" strike="noStrike">
                <a:solidFill>
                  <a:srgbClr val="999900"/>
                </a:solidFill>
                <a:latin typeface="Arial"/>
                <a:ea typeface="Times New Roman"/>
              </a:rPr>
              <a:t>, muera </a:t>
            </a:r>
            <a:r>
              <a:rPr b="0" lang="es-ES_tradnl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[</a:t>
            </a:r>
            <a:r>
              <a:rPr b="0" i="1" lang="es-ES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lo</a:t>
            </a:r>
            <a:r>
              <a:rPr b="0" i="1" lang="es-ES_tradnl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]</a:t>
            </a:r>
            <a:r>
              <a:rPr b="0" i="1" lang="es-ES" sz="2400" spc="-1" strike="noStrike">
                <a:solidFill>
                  <a:srgbClr val="666600"/>
                </a:solidFill>
                <a:latin typeface="Arial"/>
                <a:ea typeface="Times New Roman"/>
              </a:rPr>
              <a:t> negro</a:t>
            </a:r>
            <a:r>
              <a:rPr b="0" lang="es-ES" sz="2400" spc="-1" strike="noStrike">
                <a:solidFill>
                  <a:srgbClr val="9999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uel González Alfay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8380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9900"/>
                </a:solidFill>
                <a:latin typeface="Arial"/>
                <a:ea typeface="Times New Roman"/>
              </a:rPr>
              <a:t>2. Cuando la base es un verbo conjugado exi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9900"/>
                </a:solidFill>
                <a:latin typeface="Arial"/>
                <a:ea typeface="Times New Roman"/>
              </a:rPr>
              <a:t>varias transpositores pos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990720"/>
            <a:ext cx="5334120" cy="1066680"/>
          </a:xfrm>
          <a:prstGeom prst="rightArrowCallout">
            <a:avLst>
              <a:gd name="adj1" fmla="val 27503"/>
              <a:gd name="adj2" fmla="val 26250"/>
              <a:gd name="adj3" fmla="val 126336"/>
              <a:gd name="adj4" fmla="val 6626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.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conjunción completiv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[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qu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]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xpresa certidumb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62040" y="1143000"/>
            <a:ext cx="35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Quiero [</a:t>
            </a:r>
            <a:r>
              <a:rPr b="0" lang="es-ES_tradnl" sz="1800" spc="-1" strike="noStrike">
                <a:solidFill>
                  <a:srgbClr val="99ff33"/>
                </a:solidFill>
                <a:latin typeface="Verdana"/>
              </a:rPr>
              <a:t>que]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venga a mer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4800" y="167652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be [</a:t>
            </a:r>
            <a:r>
              <a:rPr b="0" lang="es-ES_tradnl" sz="1800" spc="-1" strike="noStrike">
                <a:solidFill>
                  <a:srgbClr val="99ff33"/>
                </a:solidFill>
                <a:latin typeface="Verdana"/>
              </a:rPr>
              <a:t>que]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mañana es fi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2133720"/>
            <a:ext cx="4952880" cy="1676160"/>
          </a:xfrm>
          <a:prstGeom prst="leftArrowCallout">
            <a:avLst>
              <a:gd name="adj1" fmla="val 47162"/>
              <a:gd name="adj2" fmla="val 23579"/>
              <a:gd name="adj3" fmla="val 77470"/>
              <a:gd name="adj4" fmla="val 66673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conjunción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[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]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 relaciona frecuente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 un valor interro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 con una incertidumb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276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gnoro </a:t>
            </a:r>
            <a:r>
              <a:rPr b="0" lang="es-ES_tradnl" sz="2000" spc="-1" strike="noStrike">
                <a:solidFill>
                  <a:srgbClr val="6699ff"/>
                </a:solidFill>
                <a:latin typeface="Arial"/>
                <a:ea typeface="Times New Roman"/>
              </a:rPr>
              <a:t>[</a:t>
            </a:r>
            <a:r>
              <a:rPr b="0" i="1" lang="es-ES" sz="2000" spc="-1" strike="noStrike">
                <a:solidFill>
                  <a:srgbClr val="6699ff"/>
                </a:solidFill>
                <a:latin typeface="Arial"/>
                <a:ea typeface="Times New Roman"/>
              </a:rPr>
              <a:t>si</a:t>
            </a:r>
            <a:r>
              <a:rPr b="0" i="1" lang="es-ES_tradnl" sz="2000" spc="-1" strike="noStrike">
                <a:solidFill>
                  <a:srgbClr val="6699ff"/>
                </a:solidFill>
                <a:latin typeface="Arial"/>
                <a:ea typeface="Times New Roman"/>
              </a:rPr>
              <a:t>]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ta semana iré a Madrid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191120"/>
            <a:ext cx="3657600" cy="1904760"/>
          </a:xfrm>
          <a:custGeom>
            <a:avLst/>
            <a:gdLst>
              <a:gd name="textAreaLeft" fmla="*/ 442080 w 3657600"/>
              <a:gd name="textAreaRight" fmla="*/ 3215520 w 3657600"/>
              <a:gd name="textAreaTop" fmla="*/ 382320 h 1904760"/>
              <a:gd name="textAreaBottom" fmla="*/ 152244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4338"/>
                </a:moveTo>
                <a:lnTo>
                  <a:pt x="17237" y="4338"/>
                </a:lnTo>
                <a:lnTo>
                  <a:pt x="17237" y="0"/>
                </a:lnTo>
                <a:lnTo>
                  <a:pt x="21600" y="10800"/>
                </a:lnTo>
                <a:lnTo>
                  <a:pt x="17237" y="21600"/>
                </a:lnTo>
                <a:lnTo>
                  <a:pt x="17237" y="17262"/>
                </a:lnTo>
                <a:lnTo>
                  <a:pt x="0" y="17262"/>
                </a:lnTo>
                <a:lnTo>
                  <a:pt x="2611" y="10800"/>
                </a:lnTo>
                <a:lnTo>
                  <a:pt x="0" y="4338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)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relativos 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interrogativos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xclamativ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33920" y="4495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dijo </a:t>
            </a:r>
            <a:r>
              <a:rPr b="0" lang="es-ES_tradnl" sz="2000" spc="-1" strike="noStrike">
                <a:solidFill>
                  <a:srgbClr val="6600ff"/>
                </a:solidFill>
                <a:latin typeface="Arial"/>
                <a:ea typeface="Times New Roman"/>
              </a:rPr>
              <a:t>[</a:t>
            </a:r>
            <a:r>
              <a:rPr b="0" i="1" lang="es-ES" sz="2000" spc="-1" strike="noStrike">
                <a:solidFill>
                  <a:srgbClr val="6600ff"/>
                </a:solidFill>
                <a:latin typeface="Arial"/>
                <a:ea typeface="Times New Roman"/>
              </a:rPr>
              <a:t>quién</a:t>
            </a:r>
            <a:r>
              <a:rPr b="0" i="1" lang="es-ES_tradnl" sz="2000" spc="-1" strike="noStrike">
                <a:solidFill>
                  <a:srgbClr val="6600ff"/>
                </a:solidFill>
                <a:latin typeface="Arial"/>
                <a:ea typeface="Times New Roman"/>
              </a:rPr>
              <a:t>]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abía veni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54864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sabes </a:t>
            </a:r>
            <a:r>
              <a:rPr b="0" lang="es-ES_tradnl" sz="2000" spc="-1" strike="noStrike">
                <a:solidFill>
                  <a:srgbClr val="6699ff"/>
                </a:solidFill>
                <a:latin typeface="Arial"/>
                <a:ea typeface="Times New Roman"/>
              </a:rPr>
              <a:t>[</a:t>
            </a:r>
            <a:r>
              <a:rPr b="0" i="1" lang="es-ES" sz="2000" spc="-1" strike="noStrike">
                <a:solidFill>
                  <a:srgbClr val="6699ff"/>
                </a:solidFill>
                <a:latin typeface="Arial"/>
                <a:ea typeface="Times New Roman"/>
              </a:rPr>
              <a:t>cómo</a:t>
            </a:r>
            <a:r>
              <a:rPr b="0" i="1" lang="es-ES_tradnl" sz="2000" spc="-1" strike="noStrike">
                <a:solidFill>
                  <a:srgbClr val="6699ff"/>
                </a:solidFill>
                <a:latin typeface="Arial"/>
                <a:ea typeface="Times New Roman"/>
              </a:rPr>
              <a:t>]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e lo agradezc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uel González Alfayate</a:t>
            </a: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-533520"/>
            <a:ext cx="6095880" cy="274320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Transpositores a categoría adje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Distinguimos dos supues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que la base sea verbal o no</a:t>
            </a:r>
            <a:r>
              <a:rPr b="0" lang="es-ES" sz="18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1676520"/>
            <a:ext cx="5029200" cy="2361960"/>
          </a:xfrm>
          <a:prstGeom prst="flowChartManualOperation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anposiciones de seg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 verb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unión de 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e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y sintagma nomina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perm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r </a:t>
            </a:r>
            <a:r>
              <a:rPr b="0" lang="es-ES" sz="1800" spc="-1" strike="noStrike">
                <a:solidFill>
                  <a:srgbClr val="99ff33"/>
                </a:solidFill>
                <a:latin typeface="Verdana"/>
                <a:ea typeface="Times New Roman"/>
              </a:rPr>
              <a:t>sintagmas adje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286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teoría </a:t>
            </a:r>
            <a:r>
              <a:rPr b="0" lang="es-ES_tradnl" sz="1800" spc="-1" strike="noStrike">
                <a:solidFill>
                  <a:srgbClr val="99ff33"/>
                </a:solidFill>
                <a:latin typeface="Arial"/>
                <a:ea typeface="Times New Roman"/>
              </a:rPr>
              <a:t>&lt;</a:t>
            </a:r>
            <a:r>
              <a:rPr b="0" lang="es-ES" sz="1800" spc="-1" strike="noStrike">
                <a:solidFill>
                  <a:srgbClr val="99ff33"/>
                </a:solidFill>
                <a:latin typeface="Arial"/>
                <a:ea typeface="Times New Roman"/>
              </a:rPr>
              <a:t>de</a:t>
            </a:r>
            <a:r>
              <a:rPr b="0" lang="es-ES_tradnl" sz="1800" spc="-1" strike="noStrike">
                <a:solidFill>
                  <a:srgbClr val="99ff33"/>
                </a:solidFill>
                <a:latin typeface="Arial"/>
                <a:ea typeface="Times New Roman"/>
              </a:rPr>
              <a:t>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instei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eor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743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tienda </a:t>
            </a:r>
            <a:r>
              <a:rPr b="0" lang="es-ES_tradnl" sz="1800" spc="-1" strike="noStrike">
                <a:solidFill>
                  <a:srgbClr val="99ff66"/>
                </a:solidFill>
                <a:latin typeface="Arial"/>
                <a:ea typeface="Times New Roman"/>
              </a:rPr>
              <a:t>&lt;</a:t>
            </a:r>
            <a:r>
              <a:rPr b="0" lang="es-ES" sz="1800" spc="-1" strike="noStrike">
                <a:solidFill>
                  <a:srgbClr val="99ff66"/>
                </a:solidFill>
                <a:latin typeface="Arial"/>
                <a:ea typeface="Times New Roman"/>
              </a:rPr>
              <a:t>de</a:t>
            </a:r>
            <a:r>
              <a:rPr b="0" lang="es-ES_tradnl" sz="1800" spc="-1" strike="noStrike">
                <a:solidFill>
                  <a:srgbClr val="99ff66"/>
                </a:solidFill>
                <a:latin typeface="Arial"/>
                <a:ea typeface="Times New Roman"/>
              </a:rPr>
              <a:t>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 esquina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76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libro es </a:t>
            </a:r>
            <a:r>
              <a:rPr b="0" lang="es-ES_tradnl" sz="1800" spc="-1" strike="noStrike">
                <a:solidFill>
                  <a:srgbClr val="99ff33"/>
                </a:solidFill>
                <a:latin typeface="Arial"/>
                <a:ea typeface="Times New Roman"/>
              </a:rPr>
              <a:t>&lt;</a:t>
            </a:r>
            <a:r>
              <a:rPr b="0" lang="es-ES" sz="1800" spc="-1" strike="noStrike">
                <a:solidFill>
                  <a:srgbClr val="99ff33"/>
                </a:solidFill>
                <a:latin typeface="Arial"/>
                <a:ea typeface="Times New Roman"/>
              </a:rPr>
              <a:t>de</a:t>
            </a:r>
            <a:r>
              <a:rPr b="0" lang="es-ES_tradnl" sz="1800" spc="-1" strike="noStrike">
                <a:solidFill>
                  <a:srgbClr val="99ff33"/>
                </a:solidFill>
                <a:latin typeface="Arial"/>
                <a:ea typeface="Times New Roman"/>
              </a:rPr>
              <a:t>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amir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y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419720"/>
            <a:ext cx="3505320" cy="160020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relativo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uando poseen anteceden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djetivan una or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95080" y="4603680"/>
            <a:ext cx="41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l chico </a:t>
            </a:r>
            <a:r>
              <a:rPr b="0" lang="es-ES_tradnl" sz="1800" spc="-1" strike="noStrike">
                <a:solidFill>
                  <a:srgbClr val="99ff33"/>
                </a:solidFill>
                <a:latin typeface="Verdana"/>
              </a:rPr>
              <a:t>&lt;que&gt;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conocimos =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</a:rPr>
              <a:t>Es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ch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56120" y="5257800"/>
            <a:ext cx="44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l colegio </a:t>
            </a:r>
            <a:r>
              <a:rPr b="0" lang="es-ES_tradnl" sz="1800" spc="-1" strike="noStrike">
                <a:solidFill>
                  <a:srgbClr val="99ff33"/>
                </a:solidFill>
                <a:latin typeface="Verdana"/>
              </a:rPr>
              <a:t>&lt;donde&gt;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estudió =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</a:rPr>
              <a:t>Ese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le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579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manera </a:t>
            </a:r>
            <a:r>
              <a:rPr b="0" lang="es-ES_tradnl" sz="1800" spc="-1" strike="noStrike">
                <a:solidFill>
                  <a:srgbClr val="99ff33"/>
                </a:solidFill>
                <a:latin typeface="Arial"/>
                <a:ea typeface="Times New Roman"/>
              </a:rPr>
              <a:t>&lt;</a:t>
            </a:r>
            <a:r>
              <a:rPr b="0" lang="es-ES" sz="1800" spc="-1" strike="noStrike">
                <a:solidFill>
                  <a:srgbClr val="99ff33"/>
                </a:solidFill>
                <a:latin typeface="Arial"/>
                <a:ea typeface="Times New Roman"/>
              </a:rPr>
              <a:t>como</a:t>
            </a:r>
            <a:r>
              <a:rPr b="0" lang="es-ES_tradnl" sz="1800" spc="-1" strike="noStrike">
                <a:solidFill>
                  <a:srgbClr val="99ff33"/>
                </a:solidFill>
                <a:latin typeface="Arial"/>
                <a:ea typeface="Times New Roman"/>
              </a:rPr>
              <a:t>&gt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 hac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sa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er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uel González Alfayate</a:t>
            </a: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095880" cy="236232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Transpositores a categoría adverb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Distinguimos dos c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De adverbializa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685800"/>
            <a:ext cx="4419720" cy="2666880"/>
          </a:xfrm>
          <a:prstGeom prst="vertic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143000"/>
            <a:ext cx="412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Hay que tener en cu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odo Término Adya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 un Adjetivo o de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dverbio es otro Adverb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O un sintagma transpue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 la categoría adverb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743200"/>
            <a:ext cx="4114800" cy="2057400"/>
          </a:xfrm>
          <a:custGeom>
            <a:avLst/>
            <a:gdLst>
              <a:gd name="textAreaLeft" fmla="*/ 642960 w 4114800"/>
              <a:gd name="textAreaRight" fmla="*/ 3600720 w 411480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66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ff"/>
                </a:solidFill>
                <a:latin typeface="Verdana"/>
                <a:ea typeface="Times New Roman"/>
              </a:rPr>
              <a:t>de sintagmas no verb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ff"/>
                </a:solidFill>
                <a:latin typeface="Verdan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6600ff"/>
                </a:solidFill>
                <a:latin typeface="Verdana"/>
                <a:ea typeface="Times New Roman"/>
              </a:rPr>
              <a:t>la </a:t>
            </a:r>
            <a:r>
              <a:rPr b="1" i="1" lang="es-ES" sz="1800" spc="-1" strike="noStrike">
                <a:solidFill>
                  <a:srgbClr val="6600ff"/>
                </a:solidFill>
                <a:latin typeface="Verdana"/>
                <a:ea typeface="Times New Roman"/>
              </a:rPr>
              <a:t>preposición</a:t>
            </a:r>
            <a:r>
              <a:rPr b="1" lang="es-ES" sz="1800" spc="-1" strike="noStrike">
                <a:solidFill>
                  <a:srgbClr val="6600ff"/>
                </a:solidFill>
                <a:latin typeface="Verdana"/>
                <a:ea typeface="Times New Roman"/>
              </a:rPr>
              <a:t> en dep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ff"/>
                </a:solidFill>
                <a:latin typeface="Verdan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6600ff"/>
                </a:solidFill>
                <a:latin typeface="Verdana"/>
                <a:ea typeface="Times New Roman"/>
              </a:rPr>
              <a:t>de adjetivo o adverbios</a:t>
            </a:r>
            <a:r>
              <a:rPr b="0" lang="es-ES" sz="1800" spc="-1" strike="noStrike">
                <a:solidFill>
                  <a:srgbClr val="66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3657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to </a:t>
            </a:r>
            <a:r>
              <a:rPr b="1" i="1" lang="es-ES_tradnl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/</a:t>
            </a:r>
            <a:r>
              <a:rPr b="1" i="1" lang="es-ES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con</a:t>
            </a:r>
            <a:r>
              <a:rPr b="1" i="1" lang="es-ES_tradnl" sz="2400" spc="-1" strike="noStrike">
                <a:solidFill>
                  <a:srgbClr val="6600ff"/>
                </a:solidFill>
                <a:latin typeface="Arial"/>
                <a:ea typeface="Times New Roman"/>
              </a:rPr>
              <a:t>/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u famil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7520" y="407052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erca </a:t>
            </a: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/de/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562720" y="4495680"/>
            <a:ext cx="3581280" cy="1905120"/>
          </a:xfrm>
          <a:custGeom>
            <a:avLst/>
            <a:gdLst>
              <a:gd name="textAreaLeft" fmla="*/ 559440 w 3581280"/>
              <a:gd name="textAreaRight" fmla="*/ 2705760 w 3581280"/>
              <a:gd name="textAreaTop" fmla="*/ 268200 h 1905120"/>
              <a:gd name="textAreaBottom" fmla="*/ 1636920 h 1905120"/>
            </a:gdLst>
            <a:ahLst/>
            <a:rect l="textAreaLeft" t="textAreaTop" r="textAreaRight" b="textAreaBottom"/>
            <a:pathLst>
              <a:path w="21600" h="21600">
                <a:moveTo>
                  <a:pt x="3375" y="3041"/>
                </a:moveTo>
                <a:lnTo>
                  <a:pt x="14250" y="3041"/>
                </a:lnTo>
                <a:lnTo>
                  <a:pt x="14250" y="0"/>
                </a:lnTo>
                <a:lnTo>
                  <a:pt x="21600" y="10800"/>
                </a:lnTo>
                <a:lnTo>
                  <a:pt x="14250" y="21600"/>
                </a:lnTo>
                <a:lnTo>
                  <a:pt x="14250" y="18559"/>
                </a:lnTo>
                <a:lnTo>
                  <a:pt x="3375" y="18559"/>
                </a:lnTo>
                <a:close/>
              </a:path>
              <a:path w="21600" h="21600">
                <a:moveTo>
                  <a:pt x="0" y="3041"/>
                </a:moveTo>
                <a:lnTo>
                  <a:pt x="675" y="3041"/>
                </a:lnTo>
                <a:lnTo>
                  <a:pt x="675" y="18559"/>
                </a:lnTo>
                <a:lnTo>
                  <a:pt x="0" y="18559"/>
                </a:lnTo>
                <a:close/>
              </a:path>
              <a:path w="21600" h="21600">
                <a:moveTo>
                  <a:pt x="1350" y="3041"/>
                </a:moveTo>
                <a:lnTo>
                  <a:pt x="2700" y="3041"/>
                </a:lnTo>
                <a:lnTo>
                  <a:pt x="2700" y="18559"/>
                </a:lnTo>
                <a:lnTo>
                  <a:pt x="1350" y="18559"/>
                </a:lnTo>
                <a:close/>
              </a:path>
            </a:pathLst>
          </a:custGeom>
          <a:gradFill rotWithShape="0">
            <a:gsLst>
              <a:gs pos="0">
                <a:srgbClr val="6699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1" lang="es-ES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2. de sintagmas verb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el </a:t>
            </a:r>
            <a:r>
              <a:rPr b="1" i="1" lang="es-ES_tradnl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como y que</a:t>
            </a:r>
            <a:r>
              <a:rPr b="1" lang="es-ES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 compa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666600"/>
                </a:solidFill>
                <a:latin typeface="Verdana"/>
                <a:ea typeface="Times New Roman"/>
              </a:rPr>
              <a:t>y consecutiv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20" y="4876920"/>
            <a:ext cx="55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Jaime no es</a:t>
            </a:r>
            <a:r>
              <a:rPr b="0" lang="es-ES_tradnl" sz="1800" spc="-1" strike="noStrike">
                <a:solidFill>
                  <a:srgbClr val="99ff33"/>
                </a:solidFill>
                <a:latin typeface="Verdana"/>
              </a:rPr>
              <a:t> tan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mpollón </a:t>
            </a:r>
            <a:r>
              <a:rPr b="0" lang="es-ES_tradnl" sz="1800" spc="-1" strike="noStrike">
                <a:solidFill>
                  <a:srgbClr val="99ff33"/>
                </a:solidFill>
                <a:latin typeface="Verdana"/>
              </a:rPr>
              <a:t>/como/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algunos pien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3200" y="5867280"/>
            <a:ext cx="60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Hacía </a:t>
            </a:r>
            <a:r>
              <a:rPr b="0" lang="es-ES_tradnl" sz="1800" spc="-1" strike="noStrike">
                <a:solidFill>
                  <a:srgbClr val="99ff66"/>
                </a:solidFill>
                <a:latin typeface="Verdana"/>
              </a:rPr>
              <a:t>tanto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calor </a:t>
            </a:r>
            <a:r>
              <a:rPr b="0" lang="es-ES_tradnl" sz="1800" spc="-1" strike="noStrike">
                <a:solidFill>
                  <a:srgbClr val="99ff33"/>
                </a:solidFill>
                <a:latin typeface="Verdana"/>
              </a:rPr>
              <a:t>/que/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Carolina se puso muy colo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uel González Alfayate</a:t>
            </a: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3760" y="3949560"/>
            <a:ext cx="72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Jaime no es  tan empollón como algunos piens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2735280" cy="2052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4191120"/>
            <a:ext cx="8180280" cy="187164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79040" y="61722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9360" y="4332240"/>
            <a:ext cx="1008000" cy="144000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30440" y="4332240"/>
            <a:ext cx="6937200" cy="144000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1080" y="57006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N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33560" y="571176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V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19320" y="4332240"/>
            <a:ext cx="360360" cy="107964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19320" y="534024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01720" y="4332240"/>
            <a:ext cx="360360" cy="107964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2760" y="5365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N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65360" y="4332240"/>
            <a:ext cx="5921280" cy="107964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12120" y="5340240"/>
            <a:ext cx="11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Arial"/>
              </a:rPr>
              <a:t>SAdj At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78280" y="4309920"/>
            <a:ext cx="3529080" cy="37800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04160" y="4638600"/>
            <a:ext cx="26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ub comparativ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Arial"/>
              </a:rPr>
              <a:t> CAd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65560" y="4332240"/>
            <a:ext cx="1441440" cy="72072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75320" y="49798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73840" y="502920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Adv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T.Ady (C. Del Adje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19840" y="2147760"/>
            <a:ext cx="3528720" cy="105912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14560" y="3149640"/>
            <a:ext cx="22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Arial"/>
              </a:rPr>
              <a:t>Sub comparativa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  <a:ea typeface="Arial"/>
              </a:rPr>
              <a:t> T.A.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82960" y="394956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omo algunos pien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91120" y="2147760"/>
            <a:ext cx="792000" cy="57636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1560" y="2709720"/>
            <a:ext cx="7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Arial"/>
              </a:rPr>
              <a:t>Transp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Arial"/>
              </a:rPr>
              <a:t>com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54760" y="2147760"/>
            <a:ext cx="1297080" cy="57636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23120" y="2147760"/>
            <a:ext cx="1152720" cy="57636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27840" y="2147760"/>
            <a:ext cx="1150920" cy="14472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96200" y="2147760"/>
            <a:ext cx="1008000" cy="14472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96320" y="268776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N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06720" y="268776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V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88200" y="2219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83480" y="2219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66880" y="53182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22440" y="4325760"/>
            <a:ext cx="863640" cy="107964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94480" y="617220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omple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638440" y="4330800"/>
            <a:ext cx="5761080" cy="722160"/>
            <a:chOff x="2638440" y="4330800"/>
            <a:chExt cx="5761080" cy="722160"/>
          </a:xfrm>
        </p:grpSpPr>
        <p:sp>
          <p:nvSpPr>
            <p:cNvPr id="188" name=""/>
            <p:cNvSpPr/>
            <p:nvPr/>
          </p:nvSpPr>
          <p:spPr>
            <a:xfrm>
              <a:off x="2638440" y="4334040"/>
              <a:ext cx="34920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0"/>
                  </a:moveTo>
                  <a:lnTo>
                    <a:pt x="0" y="453"/>
                  </a:lnTo>
                  <a:lnTo>
                    <a:pt x="136" y="45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21120" y="505296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973760" y="4330800"/>
              <a:ext cx="3425760" cy="718920"/>
            </a:xfrm>
            <a:custGeom>
              <a:avLst/>
              <a:gdLst/>
              <a:ahLst/>
              <a:rect l="l" t="t" r="r" b="b"/>
              <a:pathLst>
                <a:path w="136" h="453">
                  <a:moveTo>
                    <a:pt x="0" y="0"/>
                  </a:moveTo>
                  <a:lnTo>
                    <a:pt x="0" y="453"/>
                  </a:lnTo>
                  <a:lnTo>
                    <a:pt x="136" y="45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758840" y="5049720"/>
              <a:ext cx="1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700360" y="4329000"/>
            <a:ext cx="469800" cy="368280"/>
          </a:xfrm>
          <a:custGeom>
            <a:avLst/>
            <a:gdLst/>
            <a:ahLst/>
            <a:rect l="l" t="t" r="r" b="b"/>
            <a:pathLst>
              <a:path w="771" h="816">
                <a:moveTo>
                  <a:pt x="0" y="0"/>
                </a:moveTo>
                <a:lnTo>
                  <a:pt x="0" y="816"/>
                </a:lnTo>
                <a:lnTo>
                  <a:pt x="771" y="816"/>
                </a:lnTo>
                <a:lnTo>
                  <a:pt x="7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38880" y="46324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137040" y="3728880"/>
            <a:ext cx="5338800" cy="741600"/>
            <a:chOff x="3137040" y="3728880"/>
            <a:chExt cx="5338800" cy="741600"/>
          </a:xfrm>
        </p:grpSpPr>
        <p:sp>
          <p:nvSpPr>
            <p:cNvPr id="195" name=""/>
            <p:cNvSpPr/>
            <p:nvPr/>
          </p:nvSpPr>
          <p:spPr>
            <a:xfrm>
              <a:off x="3137040" y="3728880"/>
              <a:ext cx="2654280" cy="403560"/>
            </a:xfrm>
            <a:custGeom>
              <a:avLst/>
              <a:gdLst/>
              <a:ahLst/>
              <a:rect l="l" t="t" r="r" b="b"/>
              <a:pathLst>
                <a:path w="1672" h="254">
                  <a:moveTo>
                    <a:pt x="1672" y="156"/>
                  </a:moveTo>
                  <a:cubicBezTo>
                    <a:pt x="1640" y="141"/>
                    <a:pt x="1614" y="82"/>
                    <a:pt x="1462" y="56"/>
                  </a:cubicBezTo>
                  <a:cubicBezTo>
                    <a:pt x="1310" y="30"/>
                    <a:pt x="970" y="0"/>
                    <a:pt x="758" y="1"/>
                  </a:cubicBezTo>
                  <a:cubicBezTo>
                    <a:pt x="546" y="2"/>
                    <a:pt x="317" y="23"/>
                    <a:pt x="191" y="65"/>
                  </a:cubicBezTo>
                  <a:cubicBezTo>
                    <a:pt x="65" y="107"/>
                    <a:pt x="40" y="215"/>
                    <a:pt x="0" y="254"/>
                  </a:cubicBezTo>
                </a:path>
              </a:pathLst>
            </a:custGeom>
            <a:noFill/>
            <a:ln w="38160">
              <a:solidFill>
                <a:srgbClr val="99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59480" y="3948120"/>
              <a:ext cx="3816360" cy="522360"/>
            </a:xfrm>
            <a:prstGeom prst="ellipse">
              <a:avLst/>
            </a:pr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068800" y="1523880"/>
            <a:ext cx="36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com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 algunos pien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uel González Alfayate</a:t>
            </a:r>
          </a:p>
        </p:txBody>
      </p:sp>
    </p:spTree>
  </p:cSld>
  <p:transition>
    <p:cover dir="d"/>
    <p:sndAc>
      <p:stSnd>
        <p:snd r:embed="rId2" name="camera.wav"/>
      </p:stSnd>
    </p:sndAc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925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Un ejemplo de Sub consecu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644120" y="4572000"/>
            <a:ext cx="70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00"/>
                </a:solidFill>
                <a:latin typeface="Verdana"/>
                <a:ea typeface="Arial"/>
              </a:rPr>
              <a:t>tanto calor </a:t>
            </a:r>
            <a:r>
              <a:rPr b="0" lang="es-ES_tradnl" sz="2400" spc="-1" strike="noStrike">
                <a:solidFill>
                  <a:srgbClr val="99cc00"/>
                </a:solidFill>
                <a:latin typeface="Verdana"/>
                <a:ea typeface="Arial"/>
              </a:rPr>
              <a:t>/</a:t>
            </a:r>
            <a:r>
              <a:rPr b="0" lang="es-ES" sz="2400" spc="-1" strike="noStrike">
                <a:solidFill>
                  <a:srgbClr val="99cc00"/>
                </a:solidFill>
                <a:latin typeface="Verdana"/>
                <a:ea typeface="Arial"/>
              </a:rPr>
              <a:t>que</a:t>
            </a:r>
            <a:r>
              <a:rPr b="0" lang="es-ES_tradnl" sz="2400" spc="-1" strike="noStrike">
                <a:solidFill>
                  <a:srgbClr val="99cc00"/>
                </a:solidFill>
                <a:latin typeface="Verdana"/>
                <a:ea typeface="Arial"/>
              </a:rPr>
              <a:t>/</a:t>
            </a:r>
            <a:r>
              <a:rPr b="0" lang="es-ES" sz="2400" spc="-1" strike="noStrike">
                <a:solidFill>
                  <a:srgbClr val="99cc00"/>
                </a:solidFill>
                <a:latin typeface="Verdana"/>
                <a:ea typeface="Arial"/>
              </a:rPr>
              <a:t> Carolina se puso muy colo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32000" y="5157720"/>
            <a:ext cx="7416720" cy="865080"/>
          </a:xfrm>
          <a:custGeom>
            <a:avLst/>
            <a:gdLst/>
            <a:ahLst/>
            <a:rect l="l" t="t" r="r" b="b"/>
            <a:pathLst>
              <a:path w="3583" h="862">
                <a:moveTo>
                  <a:pt x="0" y="0"/>
                </a:moveTo>
                <a:lnTo>
                  <a:pt x="0" y="862"/>
                </a:lnTo>
                <a:lnTo>
                  <a:pt x="3583" y="862"/>
                </a:lnTo>
                <a:lnTo>
                  <a:pt x="3583" y="0"/>
                </a:ln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40000" y="5159520"/>
            <a:ext cx="719280" cy="502920"/>
          </a:xfrm>
          <a:custGeom>
            <a:avLst/>
            <a:gdLst/>
            <a:ahLst/>
            <a:rect l="l" t="t" r="r" b="b"/>
            <a:pathLst>
              <a:path w="817" h="499">
                <a:moveTo>
                  <a:pt x="0" y="0"/>
                </a:moveTo>
                <a:lnTo>
                  <a:pt x="0" y="499"/>
                </a:lnTo>
                <a:lnTo>
                  <a:pt x="817" y="499"/>
                </a:lnTo>
                <a:lnTo>
                  <a:pt x="817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6680" y="596124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N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13160" y="55911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41920" y="5591160"/>
            <a:ext cx="31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Arial"/>
              </a:rPr>
              <a:t>S Adj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Arial"/>
              </a:rPr>
              <a:t>Det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Arial"/>
              </a:rPr>
              <a:t>(cuantificador)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  <a:ea typeface="Arial"/>
              </a:rPr>
              <a:t>) T.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5159520"/>
            <a:ext cx="5472360" cy="141120"/>
          </a:xfrm>
          <a:custGeom>
            <a:avLst/>
            <a:gdLst/>
            <a:ahLst/>
            <a:rect l="l" t="t" r="r" b="b"/>
            <a:pathLst>
              <a:path w="817" h="499">
                <a:moveTo>
                  <a:pt x="0" y="0"/>
                </a:moveTo>
                <a:lnTo>
                  <a:pt x="0" y="499"/>
                </a:lnTo>
                <a:lnTo>
                  <a:pt x="817" y="499"/>
                </a:lnTo>
                <a:lnTo>
                  <a:pt x="817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19440" y="5230800"/>
            <a:ext cx="26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Verdana"/>
                <a:ea typeface="Arial"/>
              </a:rPr>
              <a:t>T.A </a:t>
            </a:r>
            <a:r>
              <a:rPr b="0" lang="es-ES" sz="2000" spc="-1" strike="noStrike">
                <a:solidFill>
                  <a:srgbClr val="ff3300"/>
                </a:solidFill>
                <a:latin typeface="Verdana"/>
                <a:ea typeface="Arial"/>
              </a:rPr>
              <a:t>Sub consecu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76360" y="5159520"/>
            <a:ext cx="792000" cy="142560"/>
          </a:xfrm>
          <a:custGeom>
            <a:avLst/>
            <a:gdLst/>
            <a:ahLst/>
            <a:rect l="l" t="t" r="r" b="b"/>
            <a:pathLst>
              <a:path w="817" h="499">
                <a:moveTo>
                  <a:pt x="0" y="0"/>
                </a:moveTo>
                <a:lnTo>
                  <a:pt x="0" y="499"/>
                </a:lnTo>
                <a:lnTo>
                  <a:pt x="817" y="499"/>
                </a:lnTo>
                <a:lnTo>
                  <a:pt x="817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84440" y="52308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403280" y="5159520"/>
            <a:ext cx="7272360" cy="504720"/>
            <a:chOff x="1403280" y="5159520"/>
            <a:chExt cx="7272360" cy="504720"/>
          </a:xfrm>
        </p:grpSpPr>
        <p:sp>
          <p:nvSpPr>
            <p:cNvPr id="211" name=""/>
            <p:cNvSpPr/>
            <p:nvPr/>
          </p:nvSpPr>
          <p:spPr>
            <a:xfrm>
              <a:off x="1403280" y="5159520"/>
              <a:ext cx="647640" cy="502920"/>
            </a:xfrm>
            <a:custGeom>
              <a:avLst/>
              <a:gdLst/>
              <a:ahLst/>
              <a:rect l="l" t="t" r="r" b="b"/>
              <a:pathLst>
                <a:path w="318" h="499">
                  <a:moveTo>
                    <a:pt x="0" y="0"/>
                  </a:moveTo>
                  <a:lnTo>
                    <a:pt x="0" y="499"/>
                  </a:lnTo>
                  <a:lnTo>
                    <a:pt x="318" y="49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8000" y="5159520"/>
              <a:ext cx="5327640" cy="502920"/>
            </a:xfrm>
            <a:custGeom>
              <a:avLst/>
              <a:gdLst/>
              <a:ahLst/>
              <a:rect l="l" t="t" r="r" b="b"/>
              <a:pathLst>
                <a:path w="2177" h="499">
                  <a:moveTo>
                    <a:pt x="0" y="499"/>
                  </a:moveTo>
                  <a:lnTo>
                    <a:pt x="2177" y="499"/>
                  </a:lnTo>
                  <a:lnTo>
                    <a:pt x="217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24000" y="566244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32000" y="5662440"/>
              <a:ext cx="14292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081080" y="2025720"/>
            <a:ext cx="3672000" cy="1224000"/>
          </a:xfrm>
          <a:custGeom>
            <a:avLst/>
            <a:gdLst/>
            <a:ahLst/>
            <a:rect l="l" t="t" r="r" b="b"/>
            <a:pathLst>
              <a:path w="3583" h="862">
                <a:moveTo>
                  <a:pt x="0" y="0"/>
                </a:moveTo>
                <a:lnTo>
                  <a:pt x="0" y="862"/>
                </a:lnTo>
                <a:lnTo>
                  <a:pt x="3583" y="862"/>
                </a:lnTo>
                <a:lnTo>
                  <a:pt x="3583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52360" y="2025720"/>
            <a:ext cx="827280" cy="863640"/>
          </a:xfrm>
          <a:custGeom>
            <a:avLst/>
            <a:gdLst/>
            <a:ahLst/>
            <a:rect l="l" t="t" r="r" b="b"/>
            <a:pathLst>
              <a:path w="817" h="499">
                <a:moveTo>
                  <a:pt x="0" y="0"/>
                </a:moveTo>
                <a:lnTo>
                  <a:pt x="0" y="499"/>
                </a:lnTo>
                <a:lnTo>
                  <a:pt x="817" y="499"/>
                </a:lnTo>
                <a:lnTo>
                  <a:pt x="817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78080" y="28177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71480" y="31780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V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09800" y="2025720"/>
            <a:ext cx="3816360" cy="1584360"/>
          </a:xfrm>
          <a:custGeom>
            <a:avLst/>
            <a:gdLst/>
            <a:ahLst/>
            <a:rect l="l" t="t" r="r" b="b"/>
            <a:pathLst>
              <a:path w="3583" h="862">
                <a:moveTo>
                  <a:pt x="0" y="0"/>
                </a:moveTo>
                <a:lnTo>
                  <a:pt x="0" y="862"/>
                </a:lnTo>
                <a:lnTo>
                  <a:pt x="3583" y="862"/>
                </a:lnTo>
                <a:lnTo>
                  <a:pt x="3583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77840" y="159372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Verdana"/>
                <a:ea typeface="Arial"/>
              </a:rPr>
              <a:t>Hac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17800" y="15937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Verdana"/>
                <a:ea typeface="Arial"/>
              </a:rPr>
              <a:t>tanto calor que Carolina se puso muy colo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0920" y="2025720"/>
            <a:ext cx="2630520" cy="863640"/>
          </a:xfrm>
          <a:custGeom>
            <a:avLst/>
            <a:gdLst/>
            <a:ahLst/>
            <a:rect l="l" t="t" r="r" b="b"/>
            <a:pathLst>
              <a:path w="817" h="499">
                <a:moveTo>
                  <a:pt x="0" y="0"/>
                </a:moveTo>
                <a:lnTo>
                  <a:pt x="0" y="499"/>
                </a:lnTo>
                <a:lnTo>
                  <a:pt x="817" y="499"/>
                </a:lnTo>
                <a:lnTo>
                  <a:pt x="817" y="0"/>
                </a:ln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01600" y="281772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N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28440" y="3537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9760" y="2895480"/>
            <a:ext cx="2203200" cy="2519640"/>
          </a:xfrm>
          <a:custGeom>
            <a:avLst/>
            <a:gdLst/>
            <a:ahLst/>
            <a:rect l="l" t="t" r="r" b="b"/>
            <a:pathLst>
              <a:path w="1388" h="1587">
                <a:moveTo>
                  <a:pt x="1388" y="0"/>
                </a:moveTo>
                <a:cubicBezTo>
                  <a:pt x="1183" y="179"/>
                  <a:pt x="310" y="798"/>
                  <a:pt x="155" y="1062"/>
                </a:cubicBezTo>
                <a:cubicBezTo>
                  <a:pt x="0" y="1326"/>
                  <a:pt x="394" y="1478"/>
                  <a:pt x="457" y="1587"/>
                </a:cubicBezTo>
              </a:path>
            </a:pathLst>
          </a:custGeom>
          <a:noFill/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uel González Alfayate</a:t>
            </a:r>
          </a:p>
        </p:txBody>
      </p:sp>
    </p:spTree>
  </p:cSld>
  <p:transition>
    <p:cover dir="d"/>
    <p:sndAc>
      <p:stSnd>
        <p:snd r:embed="rId2" name="camera.wav"/>
      </p:stSnd>
    </p:sndAc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75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225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6T11:27:09Z</dcterms:created>
  <dc:creator>Wiki</dc:creator>
  <dc:description/>
  <dc:language>en-US</dc:language>
  <cp:lastModifiedBy>mercedes del pozo</cp:lastModifiedBy>
  <dcterms:modified xsi:type="dcterms:W3CDTF">2009-11-08T19:01:42Z</dcterms:modified>
  <cp:revision>19</cp:revision>
  <dc:subject/>
  <dc:title>TEXTOS INFORMATIVOS PERSONALES</dc:title>
</cp:coreProperties>
</file>